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20F-4750-4D75-AB95-6693F9F9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800-3A43-486C-BA55-4CDB2C2E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962-DDB2-485C-BA4E-8CF8D5DE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4AC-CA26-4636-9A67-7479E45E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89B-6157-4418-A9F0-071AEA73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43F-F9D4-4DB3-97F6-AA5F8BB9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1E7-A889-4229-8445-F620481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EA7-8130-479F-9ABB-EA10911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71E-7917-42C8-885B-C130CF0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82F-6FC9-4014-9F3F-008B3DC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0E7-A521-4B9D-8BCB-ED4896C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A50-4D8D-4F11-9978-1B3FD53B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4764-9B07-474C-A95C-9A3EABA1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ctor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net relay chat was developed in 1988 by Jarkko Oikarinen and allows instant online communicating with someone else who is also online by typing messag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p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twork Interface Card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Web Site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series of related web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53:13Z</dcterms:created>
  <dc:creator>762923</dc:creator>
  <dc:description/>
  <dc:language>en-US</dc:language>
  <cp:lastModifiedBy>762923</cp:lastModifiedBy>
  <dcterms:modified xsi:type="dcterms:W3CDTF">2009-04-17T16:02:22Z</dcterms:modified>
  <cp:revision>4</cp:revision>
  <dc:subject/>
  <dc:title>Vocabulary</dc:title>
</cp:coreProperties>
</file>